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3381-2388-4134-A139-7A46FA26A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8F32-8184-44EA-B774-FB4EB0FF9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37C490-6352-456C-842E-7609198D2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8C4AF1-856E-4B44-B372-7E45AE30E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679285-53BB-454A-9186-201E0F164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F7E82E-55FE-43A0-A477-91C40B25A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39150B-672F-4C80-95A0-2A4011F34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1721F1-3E2A-4D49-B452-E44098654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A8034D-CCD1-47D9-830F-03DE63B47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3D1AA8-D319-4CDB-94F1-990D121C7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E1FADE-2D1B-4537-9756-A19878B51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3BD3CD-8A87-4A3E-9C1D-A277168AA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1088-BF40-4F7D-B53D-CCD914886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B664C2-D3CA-43F3-8788-AC34ADB73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EA2ED4-263A-46C3-9827-45493F4BE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93C536-B980-46B5-A87D-1F895D2F1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D6F866-8025-4786-8AC8-21DAF2E44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AE6EAC-667A-4DFD-A3D9-410A72724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9468F7-F753-4F70-AC8E-0754FBF7F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383E13-2B8B-41DA-9B88-6AEFC8DDE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8A4C2C-0D90-489D-A225-D0267E485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0266EB-D54B-4EF0-A370-505DEF43A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CFBBA2-89CE-4C8C-9D67-AB3E915A0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78C8-75AB-4D33-8DC2-A33BDFEC9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316A7A-315D-472D-8081-74EB919D2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F840CF-FFD4-4C19-AF8D-E8C0B844C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BE0907-52DC-4244-931C-13F072104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2BAA1D-36F2-42A4-89D4-45D1E9ED3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B066B3-755E-43C6-A25E-74B0F91D5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C16CED-6826-4C7B-8B30-22D290C2D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88C02B-C647-4EAB-8EDD-0C38BAB26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A733BC-D19F-4774-9C3B-0564C1866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7FFCC5-113C-4AAD-9817-3EBCD6DCD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E7B73C-77C3-4E26-887E-40C961AA6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17DF6-E558-4FED-8FB9-FA9E5BA46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FC6CC6-6194-4F8A-9BEA-CC45BADF2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4183A7-97B9-4D3C-9C0E-B36030B92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E6534D-484E-45DF-8B1C-7C11068B9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3EC04E-04E0-4090-AF58-CE8C9B46C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6A98CB-06C4-44F0-8FE3-D76B860AA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D28C2D-42DE-4123-9EF6-B49738EA5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B21552-B745-46B7-BA24-FFC176733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922CC1-871D-419C-BB0D-4E80E77A9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B81A5B-F450-4197-B927-0F2CC4DBC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6A44A8-1BCB-41E2-A705-9A9CD07A0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CDCB0-DAA5-48CA-A371-22A7C3041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7DAF5B-03E8-4EAE-911D-512FD6EB3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98755C-DF19-462B-871A-DF780A86D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D91E49-7552-4AB7-A915-B5B5589CC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E09461-6AE8-4B70-9A4C-CBDBF1304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6385D7-FBB4-4960-A14E-0578BF3CF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9348F5-6A6E-437A-BEF1-6AEA6D4F1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5E4C8E-308F-4263-8229-A13B4CB01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CB9DDC-13C1-43BF-80E6-D1FC621B5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CBC37A-B723-4F11-BEFD-443A7C89C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B747E4-C531-49E5-A41B-3C1B050B2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9DF37-8C45-4662-B23D-C95583417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135D7B-9916-4BEB-AA42-DBF2B8E03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4C17A3-EA29-48CC-96EB-9BE1CF1F1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D99181-E8F1-4C64-94E3-952EE6C6E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6E2702-9C38-4644-9989-80F961888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5119A7-7A82-460A-81C3-5B9DEEA1B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B850D7-89D4-4B2A-B4D5-5EF9F5FB1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E6D902-23EE-4835-83B2-DDD39449A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00EF87-4792-468D-AF8D-3C552F87A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B3D430-D01A-4572-B785-1B8DCC752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ED44DA-8170-4C90-B549-76F8C61E5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3F3EB-863B-4FB2-8A8C-52D738C37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9E7AAD-5532-44E4-8511-7EB8EA65E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9A76BF-AF20-4346-8FE1-D9E171A04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20C6D4-06C1-430B-9622-8F74E6191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0E3B2F-03C3-4704-83C9-5A4422CF4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BC28F4-77A0-4A87-AD38-6AA361CC8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93DDA3-3EBF-4B83-83BA-3DD12FFAD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7026A3-B4F4-48CD-B8DE-B26BF6015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D458AF-9616-4994-A941-9BB456BD4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1829CF-C3CD-40C2-9DD0-F7ACF6BBC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AC42CD-6F86-4E88-B2D0-C39CF7820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9A6DE-9198-4478-9DF7-CA45A2B45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F20E38-F278-4E92-8174-478D17DCA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10356C-287C-4F35-A511-C360CC24A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565C62-D1C7-4F1D-B528-589F4E39A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7C8939-A0E8-4129-80D3-537130A07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09FF63-9A6B-43C7-BCCA-147123125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4C12D1-2229-4CEE-8C36-396DEB5C2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8F2EF7-D298-40ED-B1CE-CE56AFB80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2E036A-164E-492F-908C-D0882DD56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B51822-529A-452E-A118-0E1AF9787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7215D5-B55D-467F-87CF-A65622D6E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00184-4E23-47E9-8D94-02C9BDF05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427F95-1702-4643-8BDC-EAFFE4251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9EF7E0-B5C7-428B-8436-72B763B66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DCAA67-23F8-4E25-9EE5-1D6E6E895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112739-944C-4FDE-AEB3-5C7A80E4A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4D31F0-FB4A-4B7A-B570-9EC3C5720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3DC0C1-087B-40B7-9615-E8734D27E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B7E60A-B7D5-41C7-AEF0-5C08D2D43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35446C-DE89-4C17-841F-6936DEF9C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23265E-EA04-428B-B59F-33C58CED6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C73564-FC19-4193-9B3B-7823CBB8C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73CB1-7A9F-43C6-BCE2-DC5E3BAC2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BA8FAE-2A78-4735-B728-ED50EAE14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1ED7A7-CA72-4CC7-B1BC-4C50F25D8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17B449-83B5-4605-9D41-5B715776B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34CD2F-84FE-4987-8CF6-A5C94A2F8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EAA74B-14C6-4B50-8DFC-9247A935B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C07CE3-EB69-49FF-BCC2-DABBDA802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38C1AC-C934-4AF2-A8B1-FFC317875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15A5B2-A13B-43DF-A9E7-B3133F97F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CF9BD2-DC11-446D-B1BB-962F53A55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F74C7C-7402-4F11-AA9D-19E05D8AC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249B-812E-4886-B275-314867F38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E2D2E-1500-43C4-9CCC-D6B523945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857971-A6ED-4A65-9A03-D4E05668D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06C53C-3ABA-4691-86E5-1320401AF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BB99DA-E635-4A05-AAE4-471688061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3FF55D-01C1-43AA-B33F-24FA81D58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8DD69A-6D62-4F33-A31E-D64AECF8F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A02DFC-78DB-411F-A5C9-9551B14DD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84D701-EA41-4850-AF61-041B00844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DEC777-5966-47E5-8DFC-DD8D9FDAE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78B664-A690-403B-9011-B140372B9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BE0A15-0151-4FCE-A342-C30A096B6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E2641-994F-485A-BEAB-C17492961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5456EC-D829-41BC-AC9C-6D09D1739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AEFFFE-B9AD-4D70-BE09-F930236D6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900FD4-AE35-4CAD-89CD-C95F7CB7E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E1ADE2-1375-447B-9E7C-13AA895E6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9F4A49-5E5F-4A6C-928D-D9C2D4518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D7E57A-2717-40F9-A4E2-B49C558DC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8F5B94-E04A-4959-9D00-7589505AB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7A3DFE-BC93-45F5-851A-E5BF107AD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139C90-50CB-49E4-A864-0FD3AD262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59067B-9647-4452-9BD3-2A4AD5022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56A4C-0EC2-4BCF-9E8F-19278579E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FB8659-0830-4943-8062-E8ACAD32D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A0C3C5-9CCF-475C-86C3-CEF13E9C7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244E3E-2A67-4A7C-9CC8-23568404E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E48780-D046-48F9-A39A-5044FEA2C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C1B792-A74E-4AD3-91A2-A87B0BC9D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594591-A112-4231-9D55-DD6E2D1E2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F047FA-F157-4F70-AB83-B0220BFA9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ADF3B8-4395-46A4-9C8C-3C65EDF11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EB084A-552B-4901-BE5D-00B726E53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546CC1-5E37-4AFF-B314-A6186E323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57363-2ABB-4918-A07B-CEB064F25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2A439A-4257-4561-A063-F1622D9D6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13F516-C7C5-470E-97FC-A3EB96EEF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745B34-87AC-4EA3-BCDA-2C032616C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80EBA6-3B6C-43B5-A3E7-F20C9081E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336AE3-A473-4BA9-8329-F36335C2D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1EA992-4D85-483C-8E2B-382148DE6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647F6A-04E0-4BB8-BE58-63F7A684C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DC1EC6-D60C-4EFD-AAA1-736F98FC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FE9D5A-D152-4C33-AC43-AC61FFD07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6EA083-B206-480E-9DEC-FE836AD66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98C74-589D-430F-9D84-1D17075E9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67C122-F56E-44D3-902F-F68D23EFC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070BD5-771A-40F0-95D4-1E7D259CB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574131-737A-4CF6-9CAF-B6BC90B97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CAB4F8-F7C8-42FE-AA44-1A98C704D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11B4DCB-10D5-42FE-8F3B-5F296EE02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2E2B432-88C7-43AC-8678-E21313EEF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D3E434-EF42-4200-A51A-065121FA7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66396A-775E-4FD9-8243-6A1D860D4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8DB69DB-EAA5-40C7-A359-ADF586E58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1953075-FD8A-43A8-A26D-75DB49C87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9E099-FEE5-47BF-881B-B6182030D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BE8AB9-E86A-4E73-8530-66258CF73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96B4033-36BD-4032-A04A-AE6074CAE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0BBAC46-1748-4698-9CCE-16F9ECEFC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10EB762-6771-4788-84E8-67B5E038F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D058E5B-F422-4530-8208-20267BE44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622BE3C-54E3-4F2F-BD9F-702FE736C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3141B66-24A2-4E91-ADDA-0AE788617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FD838FC-3BAC-4305-B39C-F05F05A24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604A0D9-6929-4760-BBF1-FC67734CE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D21AE3B-127C-4119-BE7C-47AC83329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95DFE-40FB-485B-9043-C63143D05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1A2771B-2D8C-4353-A2E8-ABB462EBB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33CA062-D06C-464C-A5BD-528F81227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909132B-3518-43A2-8B9C-0F85AB937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54A5561-3FE5-4AD2-B6B5-191C0D70E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AA9B2F2-964D-4E1A-8073-D0C35BAB2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31042F3-9097-416D-AC32-235CA094E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ADC38F7-4C77-4BAC-ABF4-C39651C9D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11B2943-03D5-42F6-9F93-9E751240B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9BDD0AE-8316-45FA-B0DB-349918A4B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D4CF2CC-A90D-4031-9196-85BFA0DC3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EA81E-E9D3-4ED5-8C0D-521135C67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948C1F6-B233-4432-951B-396A5A85C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23C6121-8C3E-41F9-B60C-115629990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69C6682-EEA9-48F3-BDB6-FA2871C0D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1EAC15F-1927-42D5-A2DE-8599AA9E0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2B5FC99-B287-4300-B03F-0CEC64AE2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EB6BDB0-4EC7-4F9E-BD0C-20D147A1B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76E1F79-1EE5-4DB8-ACC3-A84FC08EB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EEBC1-F8F6-400E-AA26-C2259F1A1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01582-C1C6-41F7-8D15-B5C9B13E9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D220-105F-41CA-98ED-B27732F9C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FC6CD-0314-4E8E-96EA-3D2A8D54B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247E3-818E-4ADE-B7DA-071B75FEC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A26DE-5832-4FBF-95DE-5603F04AF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2B16E-06EC-4EB6-817E-6E356810D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B8424-8D6B-4F7F-8250-9E5CB1F10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612AE-B908-4169-9BDD-4D0F048BF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C008D-81E4-45AD-9631-71D6EFC1F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E7719-C334-4569-BA43-447215990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380FD-479F-4211-9C94-E332E95D8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122E1-A62D-4415-915B-97124F34B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EE6D-909D-48B0-9361-7981A24B8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1CF62-83DB-4635-B1E1-E5F1416F8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7E07D-AF0E-4F76-ACD5-5DE379E45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2FED6-53CA-4E80-A47F-1FC9717C9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828B3-103D-48A9-81E5-C0CA13A5B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8E193-7718-42CB-95E7-8ED429D55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8DEB7E-82CC-4B48-8D0A-897AC1C2F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38410-1758-4028-8312-DDA869555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265DA-ADF5-4A63-A3AC-560A98584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12CB9-2C1B-4202-B6DF-4D701DD4D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943EAC-2C79-4FA5-A0F7-6ABA0A799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9C9D-786D-4B7D-88D2-32FFC8F52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752CF1-A8AD-46E6-887E-E03E3FAEA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5A5A19-4576-493D-BB94-1C194FD5F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4AB063-7335-46A5-9D3B-FB14F54BF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CABD35-640E-4FCB-B98F-43191B447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8438D0-8A5D-4991-B784-DFDED5D60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5695BC-C9EF-48C1-AA3C-E289BF593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E69F8F-B630-420C-805E-1E0CA5614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8DBCDC-1671-46A1-9324-D6846F4CA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A0101C-5621-4266-BB72-EB1927D94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10F1E8-15A5-4510-8DCA-9F4B8CC6B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EE7E-75E0-4E59-AC56-3D40953F7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FEFEA2-5554-40F0-BC0B-347D847C4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E7BFB7-78AC-45AB-9DAE-6EB7F22A9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DE3FA1-8991-4E24-9C47-1BE7C37C0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EB3BE5-BFD7-4BC2-AA73-6BE5F1589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D6E627-FCD6-4C42-8BE8-34A1EF493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03368A-0B8B-4B30-887E-655944A61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22248D-6884-4F84-B35D-EC4FF7234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744F55-112A-4F20-BF4A-C418B9D2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FDDE4E-B1C0-46B1-AEC3-FD79D8847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6AF6FE-0B3D-430D-AAD9-88D04F6CF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A9CF-503A-4AFC-A9EF-870FF63EE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2C0A51-C698-4F80-8D6F-2C2AA86B0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DD0ECB-B155-4F26-ACE9-16855AC10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7749CF-EA5B-42E0-A8F7-0A1688FA2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4EA3B4-BBC5-43CF-AEA7-E5FED8BC0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C9553D-19D7-4F93-AFD4-7BB7BDE04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C6097C-AA6B-4A6E-9431-6C1DFF2D8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A1B822-8EBC-488B-9139-8828925DE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3CE0B6-07E9-4471-BD7F-3C02893D0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A4136A-450B-4271-9050-D6D0B6D9B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D7DEF8-841B-49DE-A1ED-2332AF016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9696-4D56-4CA6-A463-D180B29BB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4BB293-D087-48ED-9AED-F16352D5E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118A22-6D03-408E-AB33-C92A48740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037842-6A2A-4CD5-B62C-4EDA519A7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CF53D3-742E-4F71-BC98-93C1E68C9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327631-B360-4466-A692-488E11AAA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0088CB-ADFF-4F88-82B5-8799D403D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31EE7A-0097-4A8E-ABFB-A37526B24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0F5BC0-D364-4636-BB8A-C53F006BE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5BB35A-3796-4E01-9E36-C3AB0988A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0A0CF6-95EA-4D54-BCC2-903929489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305B-B24A-48CD-9E94-AFCB8C883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4136C1-D515-4EB1-A0D0-0994ED325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7D5106-A685-4D43-A45E-9AFB5DF0F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5813D4-067F-491D-84EB-6819EA522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CDAF46-2F19-4A88-A2CD-DECE367FC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05115D-C21D-49A3-A3DF-EEDCEBBC5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6DB17C-AE2D-4D8D-B088-9FE244860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F8AD32-C4C5-465A-B2E1-C3B69D0BA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096F24-9DD8-41EC-9900-7C2140663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809343-82BF-4002-ADF4-E672F5758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D160C4-E230-4634-90EE-195B30DE2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5F693-57EA-4319-BF96-DFDF4807A35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90718-9FA0-4EA3-96FE-617D10D25BA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94093-EA87-4E8E-B720-BC053652038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452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454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458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4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5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476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89898-4F90-46CC-96CA-41437A2DA5A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8555D-CC74-4760-A7B4-F7D0441A1D1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73058-88F9-450A-AFE1-9CA5D9F8016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77453-85B1-4137-A35E-C4C834A48FA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F93CE-DB0B-4FD5-AF8F-A9447DABFF3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2A2A5-7853-4A31-A8CE-69866B6146F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442FD-AF5B-408B-A080-8C7E703C15F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23A59-0D08-40F8-8611-C29697A8061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BDBB0-879A-48B8-A1EC-92461B062F4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9E049-D2D6-4F15-9A66-FA33374D6C3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92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93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94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5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96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8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99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1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702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708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AB8E4-879C-4AC8-929F-8F192DE208A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29285-B597-40DD-B22A-A7A1A4FE65C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754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755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761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0CB06-B3FB-47C1-A450-34F6CEC6825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88176-E367-4EBA-8053-ACA07F0ACC5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B3DD4-11B1-4F7D-880F-DA6197A7BEE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0487D-14B4-46CD-8E92-816ADD95865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852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853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8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859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8D360-D719-4A61-8615-C68050833A3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AC521-AFE2-4EA7-A245-0333B2E6C91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DC6FF-4E1A-49B0-8D36-F21EC2C8A47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5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90122-2EAA-4079-9FBC-761C1E05D7A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59168-578D-489A-B1CC-240640E3439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950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951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4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955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CF6B1-69FA-4A6C-AA8A-5C53E35D438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A3AA1-CF2F-4CA4-9FE0-C365C7739F3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3CE5B-D415-4A6B-8FA7-2E8429D4FB8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EA894-7AAA-482B-A89E-9D55AEF93E7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046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047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8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049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1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052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4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055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056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1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062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0CE42-2A6B-4471-A786-044FF416CC0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EF1DE-8464-4ED3-BD11-F829B754619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1DED9-872F-44F9-93A4-C26AA72F607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50A38-5164-44C0-AF23-B78D103C88B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52B91-558D-4A23-9494-BC59A14534B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EB1EC-5976-4C0A-BFD7-76EEACA5C73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213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215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221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1F3F7-F76E-4671-82E0-1C448E465A8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06A25-C4CD-48C2-AEF6-DFFEFA062F5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2CE72-8D33-4ABA-8D34-8FF034BD9D8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EB805-EC3E-452E-B57B-2B903215A81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310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311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312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318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B6526-CF91-4EF5-8AA7-47C37A6C614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2F1CE-8043-429B-BA20-406C5D267ED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F8E04-0E33-4E19-BB06-887384FC4AF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E91D5-A60A-4B72-A107-3C542E19075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图片 1" descr=""/>
          <p:cNvPicPr/>
          <p:nvPr/>
        </p:nvPicPr>
        <p:blipFill>
          <a:blip r:embed="rId1"/>
          <a:stretch/>
        </p:blipFill>
        <p:spPr>
          <a:xfrm>
            <a:off x="824040" y="3043080"/>
            <a:ext cx="7495920" cy="7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7" name="图片 1" descr=""/>
          <p:cNvPicPr/>
          <p:nvPr/>
        </p:nvPicPr>
        <p:blipFill>
          <a:blip r:embed="rId1"/>
          <a:stretch/>
        </p:blipFill>
        <p:spPr>
          <a:xfrm>
            <a:off x="347760" y="871560"/>
            <a:ext cx="8447040" cy="5114880"/>
          </a:xfrm>
          <a:prstGeom prst="rect">
            <a:avLst/>
          </a:prstGeom>
          <a:ln w="0">
            <a:noFill/>
          </a:ln>
        </p:spPr>
      </p:pic>
      <p:pic>
        <p:nvPicPr>
          <p:cNvPr id="1108" name="Picture 1" descr=""/>
          <p:cNvPicPr/>
          <p:nvPr/>
        </p:nvPicPr>
        <p:blipFill>
          <a:blip r:embed="rId2"/>
          <a:stretch/>
        </p:blipFill>
        <p:spPr>
          <a:xfrm>
            <a:off x="611280" y="1249200"/>
            <a:ext cx="360360" cy="29376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1" descr=""/>
          <p:cNvPicPr/>
          <p:nvPr/>
        </p:nvPicPr>
        <p:blipFill>
          <a:blip r:embed="rId3"/>
          <a:stretch/>
        </p:blipFill>
        <p:spPr>
          <a:xfrm>
            <a:off x="611280" y="2205000"/>
            <a:ext cx="360360" cy="293760"/>
          </a:xfrm>
          <a:prstGeom prst="rect">
            <a:avLst/>
          </a:prstGeom>
          <a:ln w="0">
            <a:noFill/>
          </a:ln>
        </p:spPr>
      </p:pic>
      <p:pic>
        <p:nvPicPr>
          <p:cNvPr id="1110" name="Picture 1" descr=""/>
          <p:cNvPicPr/>
          <p:nvPr/>
        </p:nvPicPr>
        <p:blipFill>
          <a:blip r:embed="rId4"/>
          <a:stretch/>
        </p:blipFill>
        <p:spPr>
          <a:xfrm>
            <a:off x="611280" y="2800440"/>
            <a:ext cx="360360" cy="29376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1" descr=""/>
          <p:cNvPicPr/>
          <p:nvPr/>
        </p:nvPicPr>
        <p:blipFill>
          <a:blip r:embed="rId5"/>
          <a:stretch/>
        </p:blipFill>
        <p:spPr>
          <a:xfrm>
            <a:off x="611280" y="3429000"/>
            <a:ext cx="360360" cy="29376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1" descr=""/>
          <p:cNvPicPr/>
          <p:nvPr/>
        </p:nvPicPr>
        <p:blipFill>
          <a:blip r:embed="rId6"/>
          <a:stretch/>
        </p:blipFill>
        <p:spPr>
          <a:xfrm>
            <a:off x="611280" y="4076640"/>
            <a:ext cx="360360" cy="29376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1" descr=""/>
          <p:cNvPicPr/>
          <p:nvPr/>
        </p:nvPicPr>
        <p:blipFill>
          <a:blip r:embed="rId7"/>
          <a:stretch/>
        </p:blipFill>
        <p:spPr>
          <a:xfrm>
            <a:off x="611280" y="5373720"/>
            <a:ext cx="360360" cy="2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4" name="图片 1" descr=""/>
          <p:cNvPicPr/>
          <p:nvPr/>
        </p:nvPicPr>
        <p:blipFill>
          <a:blip r:embed="rId1"/>
          <a:stretch/>
        </p:blipFill>
        <p:spPr>
          <a:xfrm>
            <a:off x="181080" y="1380960"/>
            <a:ext cx="8781840" cy="4096080"/>
          </a:xfrm>
          <a:prstGeom prst="rect">
            <a:avLst/>
          </a:prstGeom>
          <a:ln w="0">
            <a:noFill/>
          </a:ln>
        </p:spPr>
      </p:pic>
      <p:pic>
        <p:nvPicPr>
          <p:cNvPr id="1115" name="Picture 1" descr=""/>
          <p:cNvPicPr/>
          <p:nvPr/>
        </p:nvPicPr>
        <p:blipFill>
          <a:blip r:embed="rId2"/>
          <a:stretch/>
        </p:blipFill>
        <p:spPr>
          <a:xfrm>
            <a:off x="611280" y="1979640"/>
            <a:ext cx="2089080" cy="293760"/>
          </a:xfrm>
          <a:prstGeom prst="rect">
            <a:avLst/>
          </a:prstGeom>
          <a:ln w="0">
            <a:noFill/>
          </a:ln>
        </p:spPr>
      </p:pic>
      <p:pic>
        <p:nvPicPr>
          <p:cNvPr id="1116" name="Picture 1" descr=""/>
          <p:cNvPicPr/>
          <p:nvPr/>
        </p:nvPicPr>
        <p:blipFill>
          <a:blip r:embed="rId3"/>
          <a:stretch/>
        </p:blipFill>
        <p:spPr>
          <a:xfrm>
            <a:off x="3564000" y="1979640"/>
            <a:ext cx="576360" cy="29376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1" descr=""/>
          <p:cNvPicPr/>
          <p:nvPr/>
        </p:nvPicPr>
        <p:blipFill>
          <a:blip r:embed="rId4"/>
          <a:stretch/>
        </p:blipFill>
        <p:spPr>
          <a:xfrm>
            <a:off x="1476360" y="2622600"/>
            <a:ext cx="576360" cy="29376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1" descr=""/>
          <p:cNvPicPr/>
          <p:nvPr/>
        </p:nvPicPr>
        <p:blipFill>
          <a:blip r:embed="rId5"/>
          <a:stretch/>
        </p:blipFill>
        <p:spPr>
          <a:xfrm>
            <a:off x="2916360" y="2612880"/>
            <a:ext cx="934920" cy="29376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1" descr=""/>
          <p:cNvPicPr/>
          <p:nvPr/>
        </p:nvPicPr>
        <p:blipFill>
          <a:blip r:embed="rId6"/>
          <a:stretch/>
        </p:blipFill>
        <p:spPr>
          <a:xfrm>
            <a:off x="684360" y="3246480"/>
            <a:ext cx="5616360" cy="293760"/>
          </a:xfrm>
          <a:prstGeom prst="rect">
            <a:avLst/>
          </a:prstGeom>
          <a:ln w="0">
            <a:noFill/>
          </a:ln>
        </p:spPr>
      </p:pic>
      <p:pic>
        <p:nvPicPr>
          <p:cNvPr id="1120" name="Picture 1" descr=""/>
          <p:cNvPicPr/>
          <p:nvPr/>
        </p:nvPicPr>
        <p:blipFill>
          <a:blip r:embed="rId7"/>
          <a:stretch/>
        </p:blipFill>
        <p:spPr>
          <a:xfrm>
            <a:off x="468360" y="3886200"/>
            <a:ext cx="5616360" cy="293760"/>
          </a:xfrm>
          <a:prstGeom prst="rect">
            <a:avLst/>
          </a:prstGeom>
          <a:ln w="0">
            <a:noFill/>
          </a:ln>
        </p:spPr>
      </p:pic>
      <p:pic>
        <p:nvPicPr>
          <p:cNvPr id="1121" name="Picture 1" descr=""/>
          <p:cNvPicPr/>
          <p:nvPr/>
        </p:nvPicPr>
        <p:blipFill>
          <a:blip r:embed="rId8"/>
          <a:stretch/>
        </p:blipFill>
        <p:spPr>
          <a:xfrm>
            <a:off x="2268360" y="4356000"/>
            <a:ext cx="3240360" cy="2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图片 1" descr=""/>
          <p:cNvPicPr/>
          <p:nvPr/>
        </p:nvPicPr>
        <p:blipFill>
          <a:blip r:embed="rId1"/>
          <a:stretch/>
        </p:blipFill>
        <p:spPr>
          <a:xfrm>
            <a:off x="542880" y="800280"/>
            <a:ext cx="8058240" cy="5257800"/>
          </a:xfrm>
          <a:prstGeom prst="rect">
            <a:avLst/>
          </a:prstGeom>
          <a:ln w="0">
            <a:noFill/>
          </a:ln>
        </p:spPr>
      </p:pic>
      <p:pic>
        <p:nvPicPr>
          <p:cNvPr id="1123" name="Picture 1" descr=""/>
          <p:cNvPicPr/>
          <p:nvPr/>
        </p:nvPicPr>
        <p:blipFill>
          <a:blip r:embed="rId2"/>
          <a:stretch/>
        </p:blipFill>
        <p:spPr>
          <a:xfrm>
            <a:off x="2556000" y="3203640"/>
            <a:ext cx="360360" cy="293760"/>
          </a:xfrm>
          <a:prstGeom prst="rect">
            <a:avLst/>
          </a:prstGeom>
          <a:ln w="0">
            <a:noFill/>
          </a:ln>
        </p:spPr>
      </p:pic>
      <p:pic>
        <p:nvPicPr>
          <p:cNvPr id="1124" name="Picture 1" descr=""/>
          <p:cNvPicPr/>
          <p:nvPr/>
        </p:nvPicPr>
        <p:blipFill>
          <a:blip r:embed="rId3"/>
          <a:stretch/>
        </p:blipFill>
        <p:spPr>
          <a:xfrm>
            <a:off x="1332000" y="3841920"/>
            <a:ext cx="360360" cy="293400"/>
          </a:xfrm>
          <a:prstGeom prst="rect">
            <a:avLst/>
          </a:prstGeom>
          <a:ln w="0">
            <a:noFill/>
          </a:ln>
        </p:spPr>
      </p:pic>
      <p:pic>
        <p:nvPicPr>
          <p:cNvPr id="1125" name="Picture 1" descr=""/>
          <p:cNvPicPr/>
          <p:nvPr/>
        </p:nvPicPr>
        <p:blipFill>
          <a:blip r:embed="rId4"/>
          <a:stretch/>
        </p:blipFill>
        <p:spPr>
          <a:xfrm>
            <a:off x="1403280" y="4465800"/>
            <a:ext cx="360360" cy="29340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1" descr=""/>
          <p:cNvPicPr/>
          <p:nvPr/>
        </p:nvPicPr>
        <p:blipFill>
          <a:blip r:embed="rId5"/>
          <a:stretch/>
        </p:blipFill>
        <p:spPr>
          <a:xfrm>
            <a:off x="1403280" y="5094360"/>
            <a:ext cx="360360" cy="293760"/>
          </a:xfrm>
          <a:prstGeom prst="rect">
            <a:avLst/>
          </a:prstGeom>
          <a:ln w="0">
            <a:noFill/>
          </a:ln>
        </p:spPr>
      </p:pic>
      <p:pic>
        <p:nvPicPr>
          <p:cNvPr id="1127" name="Picture 1" descr=""/>
          <p:cNvPicPr/>
          <p:nvPr/>
        </p:nvPicPr>
        <p:blipFill>
          <a:blip r:embed="rId6"/>
          <a:stretch/>
        </p:blipFill>
        <p:spPr>
          <a:xfrm>
            <a:off x="4932360" y="5421240"/>
            <a:ext cx="360360" cy="2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8" name="图片 1" descr=""/>
          <p:cNvPicPr/>
          <p:nvPr/>
        </p:nvPicPr>
        <p:blipFill>
          <a:blip r:embed="rId1"/>
          <a:stretch/>
        </p:blipFill>
        <p:spPr>
          <a:xfrm>
            <a:off x="104760" y="2209680"/>
            <a:ext cx="8934480" cy="243864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1" descr=""/>
          <p:cNvPicPr/>
          <p:nvPr/>
        </p:nvPicPr>
        <p:blipFill>
          <a:blip r:embed="rId2"/>
          <a:stretch/>
        </p:blipFill>
        <p:spPr>
          <a:xfrm>
            <a:off x="1476360" y="2502000"/>
            <a:ext cx="1582920" cy="293760"/>
          </a:xfrm>
          <a:prstGeom prst="rect">
            <a:avLst/>
          </a:prstGeom>
          <a:ln w="0">
            <a:noFill/>
          </a:ln>
        </p:spPr>
      </p:pic>
      <p:pic>
        <p:nvPicPr>
          <p:cNvPr id="1130" name="Picture 1" descr=""/>
          <p:cNvPicPr/>
          <p:nvPr/>
        </p:nvPicPr>
        <p:blipFill>
          <a:blip r:embed="rId3"/>
          <a:stretch/>
        </p:blipFill>
        <p:spPr>
          <a:xfrm>
            <a:off x="1763640" y="2833560"/>
            <a:ext cx="2160720" cy="293760"/>
          </a:xfrm>
          <a:prstGeom prst="rect">
            <a:avLst/>
          </a:prstGeom>
          <a:ln w="0">
            <a:noFill/>
          </a:ln>
        </p:spPr>
      </p:pic>
      <p:pic>
        <p:nvPicPr>
          <p:cNvPr id="1131" name="Picture 1" descr=""/>
          <p:cNvPicPr/>
          <p:nvPr/>
        </p:nvPicPr>
        <p:blipFill>
          <a:blip r:embed="rId4"/>
          <a:stretch/>
        </p:blipFill>
        <p:spPr>
          <a:xfrm>
            <a:off x="4427640" y="3141720"/>
            <a:ext cx="2520720" cy="29376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1" descr=""/>
          <p:cNvPicPr/>
          <p:nvPr/>
        </p:nvPicPr>
        <p:blipFill>
          <a:blip r:embed="rId5"/>
          <a:stretch/>
        </p:blipFill>
        <p:spPr>
          <a:xfrm>
            <a:off x="2340000" y="3773520"/>
            <a:ext cx="1584360" cy="29376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1" descr=""/>
          <p:cNvPicPr/>
          <p:nvPr/>
        </p:nvPicPr>
        <p:blipFill>
          <a:blip r:embed="rId6"/>
          <a:stretch/>
        </p:blipFill>
        <p:spPr>
          <a:xfrm>
            <a:off x="2871720" y="4105440"/>
            <a:ext cx="1584360" cy="29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7T02:21:41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